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DD2-4F8A-43A1-A556-F1F4E72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FE3-427A-4C6C-A3FE-F7ADDAE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CAE-7F5E-42E7-82F7-3F2F34C6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36D-E90F-4FC2-9766-506DA65F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399-401C-43C9-AF8A-72A2F7F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683-0DBD-4CA0-B759-DA2A8D2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7E4-4B30-4ACF-9908-9EA117B3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66A-8F71-4C7D-A678-95A326B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AFF-EF24-4AB1-9D05-E3AEE88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B74-2274-4C1E-85C7-BF10C55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C83-2661-4F85-8DBC-C44971B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C3C-08D9-4939-AC06-7BBB099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406-73DE-4685-8920-74172185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Iwo Jima</a:t>
            </a:r>
            <a:br>
              <a:rPr sz="48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(16 February 1939–17 March 19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By: Kimberly Go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93000">
            <a:off x="609480" y="457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0820000">
            <a:off x="914400" y="2437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journeyamerica.files.wordpress.com/2008/07/iwo-jima-picture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Agai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U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659400">
            <a:off x="6172200" y="1523520"/>
            <a:ext cx="235728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900400">
            <a:off x="837720" y="419112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3276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652800">
            <a:off x="5943240" y="26665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govdocs.evergreen.edu/hotopics/asian-pacifichistory/flags/usa.p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837400">
            <a:off x="993600" y="57564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evansvillefolkdancers.com/sitebuildercontent/sitebuilderpictures/FlagJapan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wo Jima is a Japanes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ight-square-mile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ocket launc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20 large mort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wit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arger than 75 mm </a:t>
            </a:r>
            <a:br>
              <a:rPr sz="3200"/>
            </a:b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57680" cy="194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45720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96252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tri.army.mil/lc/CS/csa/m260m2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Battle cost the United States 4,590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ounded 24,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More than 20,000 Japanese were ki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,083 Japanese capt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Heinl, Robert Debs, Jr. "Iwo Jima."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</a:rPr>
              <a:t>Dictionary of American History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. Ed. Stanley I. Kutler. Vol. 4. 3rd ed. New York: Charles Scribner's Sons, 2003. 450-451.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</a:rPr>
              <a:t>Gale Virtual Reference Library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. Gale. High School. 4 Dec. 2009 &lt;http://go.galegroup.com/ps/start.do?p=GVRL&amp;u=s0003&gt;.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Wawro, Geoffrey. "Iwo Jima, Battle of." </a:t>
            </a:r>
            <a:r>
              <a:rPr b="0" i="1" lang="en-US" sz="1000" spc="-1" strike="noStrike">
                <a:solidFill>
                  <a:srgbClr val="ff5050"/>
                </a:solidFill>
                <a:latin typeface="Arial"/>
              </a:rPr>
              <a:t>World Book Student.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 World Book, 2009. Web. 4 Dec. 2009. </a:t>
            </a:r>
            <a:br>
              <a:rPr sz="1000"/>
            </a:b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49:21Z</dcterms:created>
  <dc:creator>12208</dc:creator>
  <dc:description/>
  <dc:language>en-US</dc:language>
  <cp:lastModifiedBy>12208</cp:lastModifiedBy>
  <dcterms:modified xsi:type="dcterms:W3CDTF">2009-12-14T19:07:35Z</dcterms:modified>
  <cp:revision>5</cp:revision>
  <dc:subject/>
  <dc:title>Iwo Jima (16 February–17 March 1945)</dc:title>
</cp:coreProperties>
</file>